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6335-F315-49FB-BCA2-5B38B675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645-CA28-4CC8-8BD0-837E1650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EDA-36D1-4F30-B050-80F2498C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46C-5AFC-4ED6-849D-BACAE637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FABB-F409-4B20-9F45-A8EC3135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E747-1136-4E24-93D1-597AFC58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EBF3-E36B-464C-87BC-D99283F4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D300-9142-46BE-BA68-DB5BD983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EFB4-8DEC-43B1-8824-A444590A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DDE5-08F4-45C3-B454-B54FFAC3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E2B4-B7CA-4B24-96C2-D7022E7F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204-7BBE-43C4-B630-1CE00272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7D6B-BB7A-40DA-B216-E9BCE8E7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A08C-6BE8-45C9-8FBE-7B2A5049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891D-041B-44F0-8A3E-6CC09D69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109B-9A5E-4151-99EA-84234F9A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EFC6-339F-409C-85E8-ABA53BE9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A8F91-9DC4-49F7-AE5D-0935E3D2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D58E2-3EE6-44E0-91B6-8AAE4CA9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46F64-E53C-479E-B26F-B7B4F5DD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C1996-6497-40FB-AB50-954C7BEB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6347D-3910-4A33-909B-0E328758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ABD-A4DD-4797-9F80-8F3EAA84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1B05E-DDE3-41B8-B44D-AC105BB3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CE755-B5F3-4E6E-86D3-B5BB9E76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31409-1478-4E96-B024-AA492B6F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21375-193E-49B7-81EA-888D6051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C267E-F1D6-4EF3-B5F9-40721B49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74E91-8B47-43F0-B060-FFE098FB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2BAB3-6BA8-40E0-9EE2-25A4363A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15EEE-5B8B-4EC9-9288-90D913C3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6E361-837E-4D2A-BC4F-B74DF14B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6304C-9858-4840-800F-83574146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441-A30A-481B-83E9-3950DE8D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1292E-1090-4A26-8A40-D85ADD5F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1B6B6-354A-4A75-90FC-125E0B42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5B3DE-CAF7-432A-A4D0-01D073A7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B9372-14FE-4A54-A55D-A970DF55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A03F4-99FF-45C3-AA06-CE407EBC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B7B71-9167-4BF9-B7FE-6D233B0F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26458-985A-4FD5-8B0E-0292F011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D8E3E-46B3-4E6A-82FF-D3DC1C10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63618-0DFC-416E-9642-47CBA8D9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2AB-FFAD-4338-9CFC-F48BB64C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49E-0E05-451B-90CA-87568652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B339-9978-4594-99DE-CF96584D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D32-9666-4C00-9298-36374D4B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6C79-ABC2-4251-A125-97F122DD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425E-E7E5-4E9D-BB86-91E40F36F210}" type="slidenum">
              <a:rPr b="0" lang="en-US" sz="1400" spc="-1" strike="noStrike">
                <a:solidFill>
                  <a:srgbClr val="4e5b6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17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17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8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82CE-8E27-41DB-8DF9-F6CB0EBDDB2E}" type="slidenum">
              <a:rPr b="0" lang="en-US" sz="1400" spc="-1" strike="noStrike">
                <a:solidFill>
                  <a:srgbClr val="4e5b6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7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7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9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20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21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3DF9-8114-485D-858E-6BF9B9A724C6}" type="slidenum">
              <a:rPr b="0" lang="en-US" sz="1400" spc="-1" strike="noStrike">
                <a:solidFill>
                  <a:srgbClr val="4e5b6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15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16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17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17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8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9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0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1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C3AF-F56A-49FD-95B8-45DD0E21D1D6}" type="slidenum">
              <a:rPr b="0" lang="en-US" sz="1400" spc="-1" strike="noStrike">
                <a:solidFill>
                  <a:srgbClr val="4e5b6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3"/>
          <p:cNvSpPr/>
          <p:nvPr/>
        </p:nvSpPr>
        <p:spPr>
          <a:xfrm>
            <a:off x="3210480" y="5715000"/>
            <a:ext cx="22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Franklin Gothic Book"/>
              </a:rPr>
              <a:t>By: Laura Henderson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2920680" y="487836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www.dmoz.org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3257640" y="1523880"/>
            <a:ext cx="2270160" cy="20955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227" name="Picture 6" descr=""/>
          <p:cNvPicPr/>
          <p:nvPr/>
        </p:nvPicPr>
        <p:blipFill>
          <a:blip r:embed="rId2"/>
          <a:stretch/>
        </p:blipFill>
        <p:spPr>
          <a:xfrm>
            <a:off x="2652840" y="3805200"/>
            <a:ext cx="37717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3"/>
          <p:cNvSpPr/>
          <p:nvPr/>
        </p:nvSpPr>
        <p:spPr>
          <a:xfrm>
            <a:off x="2534760" y="743040"/>
            <a:ext cx="395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Franklin Gothic Book"/>
              </a:rPr>
              <a:t>WHAT IS DMOZ 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376200" y="1447920"/>
            <a:ext cx="847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What does DMOZ stand for ?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It was originally known as DMOZ, from ‘Directory.MOZilla.org’,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i="1" lang="en-US" sz="1800" spc="-1" strike="noStrike">
                <a:solidFill>
                  <a:srgbClr val="000000"/>
                </a:solidFill>
                <a:latin typeface="Franklin Gothic Book"/>
              </a:rPr>
              <a:t>Now called The Open Directory Project (ODP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e Open Directory Project is the  largest ,most comprehensiv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human edited directory on the web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It is constructed &amp; maintained by volunteer editors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It is 100% free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It powers the core directory for search engines such as Lycos,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AOL, Google, Netscape and more.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"/>
          <p:cNvPicPr/>
          <p:nvPr/>
        </p:nvPicPr>
        <p:blipFill>
          <a:blip r:embed="rId1"/>
          <a:srcRect l="19922" t="24751" r="20548" b="11499"/>
          <a:stretch/>
        </p:blipFill>
        <p:spPr>
          <a:xfrm>
            <a:off x="914400" y="762120"/>
            <a:ext cx="7257960" cy="48574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"/>
          <p:cNvSpPr/>
          <p:nvPr/>
        </p:nvSpPr>
        <p:spPr>
          <a:xfrm>
            <a:off x="877320" y="5435640"/>
            <a:ext cx="7245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I am searching for a New York Pizza Crust Recipe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hoose the category  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“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Franklin Gothic Book"/>
              </a:rPr>
              <a:t>Home”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&amp; then click 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“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Franklin Gothic Book"/>
              </a:rPr>
              <a:t>Cooking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Left Arrow 2"/>
          <p:cNvSpPr/>
          <p:nvPr/>
        </p:nvSpPr>
        <p:spPr>
          <a:xfrm>
            <a:off x="7467480" y="3328920"/>
            <a:ext cx="978120" cy="241200"/>
          </a:xfrm>
          <a:prstGeom prst="leftArrow">
            <a:avLst>
              <a:gd name="adj1" fmla="val 50000"/>
              <a:gd name="adj2" fmla="val 50221"/>
            </a:avLst>
          </a:prstGeom>
          <a:solidFill>
            <a:srgbClr val="ff9900"/>
          </a:solidFill>
          <a:ln w="424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Right Arrow 3"/>
          <p:cNvSpPr/>
          <p:nvPr/>
        </p:nvSpPr>
        <p:spPr>
          <a:xfrm>
            <a:off x="4626000" y="3068640"/>
            <a:ext cx="979560" cy="187200"/>
          </a:xfrm>
          <a:prstGeom prst="rightArrow">
            <a:avLst>
              <a:gd name="adj1" fmla="val 50000"/>
              <a:gd name="adj2" fmla="val 50219"/>
            </a:avLst>
          </a:prstGeom>
          <a:solidFill>
            <a:srgbClr val="ff9900"/>
          </a:solidFill>
          <a:ln w="424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rcRect l="3047" t="37275" r="47031" b="13186"/>
          <a:stretch/>
        </p:blipFill>
        <p:spPr>
          <a:xfrm>
            <a:off x="949320" y="700200"/>
            <a:ext cx="7203960" cy="4114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"/>
          <p:cNvSpPr/>
          <p:nvPr/>
        </p:nvSpPr>
        <p:spPr>
          <a:xfrm>
            <a:off x="1981080" y="4952880"/>
            <a:ext cx="40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Choose: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“Pizza”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Left Arrow 2"/>
          <p:cNvSpPr/>
          <p:nvPr/>
        </p:nvSpPr>
        <p:spPr>
          <a:xfrm>
            <a:off x="5943600" y="3162240"/>
            <a:ext cx="977760" cy="239760"/>
          </a:xfrm>
          <a:prstGeom prst="leftArrow">
            <a:avLst>
              <a:gd name="adj1" fmla="val 50000"/>
              <a:gd name="adj2" fmla="val 50126"/>
            </a:avLst>
          </a:prstGeom>
          <a:solidFill>
            <a:srgbClr val="ff9900"/>
          </a:solidFill>
          <a:ln w="424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6683400" y="4815000"/>
            <a:ext cx="16462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rcRect l="5274" t="21000" r="3555" b="40190"/>
          <a:stretch/>
        </p:blipFill>
        <p:spPr>
          <a:xfrm>
            <a:off x="642960" y="990720"/>
            <a:ext cx="796752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"/>
          <p:cNvSpPr/>
          <p:nvPr/>
        </p:nvSpPr>
        <p:spPr>
          <a:xfrm>
            <a:off x="1999080" y="5375160"/>
            <a:ext cx="533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Choose: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“New York Pizza”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Left Arrow 2"/>
          <p:cNvSpPr/>
          <p:nvPr/>
        </p:nvSpPr>
        <p:spPr>
          <a:xfrm>
            <a:off x="3532320" y="3294000"/>
            <a:ext cx="979200" cy="243000"/>
          </a:xfrm>
          <a:prstGeom prst="leftArrow">
            <a:avLst>
              <a:gd name="adj1" fmla="val 50000"/>
              <a:gd name="adj2" fmla="val 49904"/>
            </a:avLst>
          </a:prstGeom>
          <a:solidFill>
            <a:srgbClr val="ff9900"/>
          </a:solidFill>
          <a:ln w="424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rcRect l="2696" t="28502" r="59689" b="13753"/>
          <a:stretch/>
        </p:blipFill>
        <p:spPr>
          <a:xfrm>
            <a:off x="1523880" y="638280"/>
            <a:ext cx="586764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9:17:39Z</dcterms:created>
  <dc:creator>ULJH2</dc:creator>
  <dc:description/>
  <dc:language>en-US</dc:language>
  <cp:lastModifiedBy>ULJH2</cp:lastModifiedBy>
  <dcterms:modified xsi:type="dcterms:W3CDTF">2012-03-31T20:33:51Z</dcterms:modified>
  <cp:revision>6</cp:revision>
  <dc:subject/>
  <dc:title>PowerPoint Presentation</dc:title>
</cp:coreProperties>
</file>